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6E5-1486-4370-A56F-A61A93A9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E07-0ED8-47B7-97A1-77A54F94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BE1-96D4-42A6-80CE-991B1CAE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1EC-3007-407E-BCB5-859E1B86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AC1-5F00-44CF-B0CD-CD25516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23F-B1F7-4232-B39D-EF4E5DC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7F4-707F-45A7-8042-9EF6AFB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1CF-C5E2-48C4-875C-371DD4DE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CC3-572C-4625-8311-57781F9B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971-BAFA-4272-B3CF-FC3CB30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CE-2755-4DA3-AAFB-BFA899A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DA7-8B85-4FE6-8751-E1E2AFA0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131-067E-4FD1-9CD2-BF082A3C7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413000"/>
            <a:ext cx="34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2a3</cp:lastModifiedBy>
  <dcterms:modified xsi:type="dcterms:W3CDTF">2012-06-18T10:54:08Z</dcterms:modified>
  <cp:revision>31</cp:revision>
  <dc:subject/>
  <dc:title>SALARIUL</dc:title>
</cp:coreProperties>
</file>